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7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9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5C5D-FC91-4B93-BDF2-3B28B6164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A8DC-9432-4961-8434-42B41A8515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DA94-FB0C-41F0-8EBF-32CE5ABD1C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E23-2492-4DDE-8E27-7B8D00D9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560-8EBC-4650-BF93-D9C0476E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D47-26BE-439C-833C-B6C01D88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17A-FCC9-417E-B3F7-5F5B7259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85E3-E099-4086-8B77-81849C66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A339-BCB3-4F57-9818-F0E91A7A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F952-6B5B-4D5D-A807-75807882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BB4A-13BF-4222-9FAF-C500D041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1E12-33C2-4F92-8E06-006C7FF7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7484-20D2-4286-92C3-36BAE668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C0B5-8922-49C9-826A-200F53D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F84-F828-4028-BDAB-52B1F772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8F7F-A7DC-4449-BFBA-6F720F94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62A3-24C0-4CF8-81D9-8738839E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3C54-C828-4867-97F6-213363FC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875E-06B8-4C07-94D8-D53DC625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64F9-4D30-4A64-A287-E4145179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0223C-1ADA-446C-90B7-75ECDCC8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CB213-20C1-4AA7-A3F7-3586CE07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4722-24FD-4886-B7AE-F8830F80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947E-6103-4B90-97D2-1205ED28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9D4F-1046-4CE2-BF3F-AD727FD3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264-559F-4A97-8389-51A3E003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60FC-9214-45BF-AEE2-F8B184A3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D08C-0C2D-4819-9F58-B873F853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0BE6-BF77-4CB9-AD26-0F702531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CA030-429F-4E8A-AE92-5DAED00C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C4CB-BEE3-41B9-933D-1CB7B2DB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D80C-D19D-445E-B2D1-D9E3C40C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F54C-56F6-4228-B143-8D296024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64914-79E3-419B-A0B9-E2D965E3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FBF15-D670-480E-916C-5F72BECD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9300-29FB-4643-B98A-24BDB19D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F05-CFFE-44FA-B181-25131D80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9388-8DED-4059-AB87-741F19E8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206BB-F4E0-4A23-8B2D-BC9AF31E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A88CE-199C-43B9-9665-53275031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FFE70-60EC-445D-8380-D2C6C66D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2663C-A58A-47D9-8428-7193B8E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F2D0-205A-4339-BD45-65A808CD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34870-7EED-4FDA-94CA-CFE1AC8C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F8C60-E07E-4217-BBD4-7CAE34BF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E3F1B-99E2-4F1E-BA7D-A81CE54E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BF760-B5CA-4201-B2E3-D829ECCC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C03-59D8-4981-99D0-46DF0B8E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58E9D-CBE6-410B-9D79-C65742D4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257E6-F6A8-494D-A40D-824974AF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7A0E6-68C4-4732-8F79-AA5A4CAC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2C54A-DD7B-4243-A2E4-63F2C31B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E4701-B55E-4F6D-8495-B4E5B4C7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5574D-706C-4FC9-986B-B7882FBF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51F43-1BB8-4DDD-8B82-7436E372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DA6AB-16A9-49B0-92F3-4A697F28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B8B62-FDD7-430C-B348-5C20CD34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0A55B-1DF3-47E3-B09C-5CF01A99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A53-FBF1-4300-BC8F-08BAC80C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94700-1E6F-483C-A2AF-66FAD66D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C4BBE-95D6-4D06-8740-454B7F1E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DDEE4-579E-49D2-B5BC-49C259B2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26E79-A806-451D-A02C-E8C152C7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9D82F-1B39-4721-9E60-B8C6C7C7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2D419-83FA-4F1F-8549-A5232FB3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BFDAC-ED2E-4877-81E1-E6D453EF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EC463-B6B0-4F0B-A03E-10E23D0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CEC57-1BD5-4C40-9A4A-B0A3B8F1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7911B-CE8B-43D0-9731-862DDE0D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F60-0658-43A4-9802-60A4E1F5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6109A-9158-4CC4-97AE-99E83353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B4255-8D94-4A91-B7D1-FA5A01D0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A67D5-4899-4BC7-A6E5-67E780F9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23C-7E99-4DBC-9EB1-C7F04574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AD2-09D6-4F93-81AD-99168A40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AC26-F6EC-4454-B3A4-98BEA5B54E0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5B5D-7233-43FC-8662-D19DAC471A3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0F73-88AC-4C6F-A786-15B3C8706D2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7BA7-B608-4B2B-8A64-67BCE68A389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E259-53FF-4898-B235-FE52A455C6C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35B0-6741-48FF-990D-83BBBD55555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~Инфективне болести~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Инфекције у трудноћ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Placeholder 4" descr="glavna beba.jpg"/>
          <p:cNvPicPr/>
          <p:nvPr/>
        </p:nvPicPr>
        <p:blipFill>
          <a:blip r:embed="rId1"/>
          <a:stretch/>
        </p:blipFill>
        <p:spPr>
          <a:xfrm>
            <a:off x="4602240" y="1328760"/>
            <a:ext cx="4206960" cy="54435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1120" y="5715000"/>
            <a:ext cx="4419360" cy="53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Проф. др Биљана Поповска Јовичић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Audio 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стика интраутериних инфекција (пренатална и постнатална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a0b0"/>
                </a:solidFill>
                <a:latin typeface="Cambria"/>
              </a:rPr>
              <a:t>Лабораторијска дијагност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1640" y="1752120"/>
            <a:ext cx="4041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6ea0b0"/>
                </a:solidFill>
                <a:latin typeface="Cambria"/>
              </a:rPr>
              <a:t>Методе које се користе у пренаталној дијагностиц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304776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золација на култури тк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Бактериолошке анализе (културе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Серолошке методе (ЕLISA, доказивање A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еакција ланчане полимеризације (PC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4720" y="3200040"/>
            <a:ext cx="404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Амниоцeнте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рдоцeнте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Биопсија хорионских чуп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Методе које се користе у пренаталној дијагностиц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5562720"/>
            <a:ext cx="4040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mbria"/>
              </a:rPr>
              <a:t>Амниоцeнт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4720" y="5562720"/>
            <a:ext cx="4041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mbria"/>
              </a:rPr>
              <a:t>Кордоцeнт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Content Placeholder 8" descr="amniocinteza.jpg"/>
          <p:cNvPicPr/>
          <p:nvPr/>
        </p:nvPicPr>
        <p:blipFill>
          <a:blip r:embed="rId1"/>
          <a:stretch/>
        </p:blipFill>
        <p:spPr>
          <a:xfrm>
            <a:off x="609480" y="1727280"/>
            <a:ext cx="3888000" cy="3666960"/>
          </a:xfrm>
          <a:prstGeom prst="rect">
            <a:avLst/>
          </a:prstGeom>
          <a:ln w="0">
            <a:noFill/>
          </a:ln>
        </p:spPr>
      </p:pic>
      <p:pic>
        <p:nvPicPr>
          <p:cNvPr id="301" name="Content Placeholder 9" descr="kordocinteza.jpg"/>
          <p:cNvPicPr/>
          <p:nvPr/>
        </p:nvPicPr>
        <p:blipFill>
          <a:blip r:embed="rId2"/>
          <a:stretch/>
        </p:blipFill>
        <p:spPr>
          <a:xfrm>
            <a:off x="4641840" y="1752480"/>
            <a:ext cx="4265640" cy="3657600"/>
          </a:xfrm>
          <a:prstGeom prst="rect">
            <a:avLst/>
          </a:prstGeom>
          <a:ln w="0">
            <a:noFill/>
          </a:ln>
        </p:spPr>
      </p:pic>
      <p:pic>
        <p:nvPicPr>
          <p:cNvPr id="302" name="Audio 14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Вирусне инфекције у трудноћи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ub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600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Rubella virus припада Togavir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Хематогено-трансплацентар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нфекција серонегативне трудни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симптоматска или блага болест трудни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Content Placeholder 7" descr=""/>
          <p:cNvPicPr/>
          <p:nvPr/>
        </p:nvPicPr>
        <p:blipFill>
          <a:blip r:embed="rId1"/>
          <a:stretch/>
        </p:blipFill>
        <p:spPr>
          <a:xfrm>
            <a:off x="4645080" y="1517760"/>
            <a:ext cx="4498920" cy="4578120"/>
          </a:xfrm>
          <a:prstGeom prst="rect">
            <a:avLst/>
          </a:prstGeom>
          <a:ln w="0">
            <a:noFill/>
          </a:ln>
        </p:spPr>
      </p:pic>
      <p:pic>
        <p:nvPicPr>
          <p:cNvPr id="307" name="Audio 4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Знакови конгениталне рубел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9" name="Content Placeholder 3" descr=""/>
          <p:cNvPicPr/>
          <p:nvPr/>
        </p:nvPicPr>
        <p:blipFill>
          <a:blip r:embed="rId1"/>
          <a:stretch/>
        </p:blipFill>
        <p:spPr>
          <a:xfrm>
            <a:off x="-171360" y="1371600"/>
            <a:ext cx="8797680" cy="5108400"/>
          </a:xfrm>
          <a:prstGeom prst="rect">
            <a:avLst/>
          </a:prstGeom>
          <a:ln w="0">
            <a:noFill/>
          </a:ln>
        </p:spPr>
      </p:pic>
      <p:pic>
        <p:nvPicPr>
          <p:cNvPr id="310" name="Audio 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Конгенитални Рубела синдром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2" name="Content Placeholder 3" descr="rubelasindrom.jpg"/>
          <p:cNvPicPr/>
          <p:nvPr/>
        </p:nvPicPr>
        <p:blipFill>
          <a:blip r:embed="rId1"/>
          <a:stretch/>
        </p:blipFill>
        <p:spPr>
          <a:xfrm>
            <a:off x="1092240" y="1447920"/>
            <a:ext cx="6680160" cy="5014800"/>
          </a:xfrm>
          <a:prstGeom prst="rect">
            <a:avLst/>
          </a:prstGeom>
          <a:ln w="0">
            <a:noFill/>
          </a:ln>
        </p:spPr>
      </p:pic>
      <p:pic>
        <p:nvPicPr>
          <p:cNvPr id="313" name="Audio 7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Дијагностикa и лечење Рубел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9047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золација вируса –амнионска течност, назофаринкс, урин, цереброспинална течно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Серолошка дијагностика- ЕLISA, доказивање IgM антитела, или четворуструки пораст  IgG антите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еакција ланчане полимеризације P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етоде-кордоцeнтеза, биопсија хорионских чуп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Лечење је симптоматск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ревенција- жива атенуисана вакцина ММ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Audio 15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Cytomegalovirosi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14264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DNK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ирус, припада пород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i="1" lang="sr-Latn-RS" sz="2000" spc="-1" strike="noStrike">
                <a:solidFill>
                  <a:srgbClr val="ffffff"/>
                </a:solidFill>
                <a:latin typeface="Cambria"/>
              </a:rPr>
              <a:t>Herpesvir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фекција мајке може би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марна инфекција (30-50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инфекција (1-2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утеви ширења инфекциј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ambria"/>
              </a:rPr>
              <a:t>Т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ансплацетал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ambria"/>
              </a:rPr>
              <a:t>Т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ком порођа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ојењ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ambria"/>
              </a:rPr>
              <a:t>Екскреција вируса код заражене новорођенчади може трајати месецима, па и годинама, а вирус се може изоловати из урина, крви, суза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Audio 1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Cytomegalovirosi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38320" y="50292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ea0b0"/>
                </a:solidFill>
                <a:latin typeface="Arial"/>
              </a:rPr>
              <a:t>CMV placent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517400"/>
            <a:ext cx="41907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MV инфек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имптоматска 10%    Асимптоматска 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7%                              5-15%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Трајне секвеле               Оштећење слух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Content Placeholder 19" descr="300px-CMV_placentitis1_mini.jpg"/>
          <p:cNvPicPr/>
          <p:nvPr/>
        </p:nvPicPr>
        <p:blipFill>
          <a:blip r:embed="rId1"/>
          <a:stretch/>
        </p:blipFill>
        <p:spPr>
          <a:xfrm>
            <a:off x="4724280" y="2116080"/>
            <a:ext cx="3846600" cy="2718000"/>
          </a:xfrm>
          <a:prstGeom prst="rect">
            <a:avLst/>
          </a:prstGeom>
          <a:ln w="0">
            <a:noFill/>
          </a:ln>
        </p:spPr>
      </p:pic>
      <p:cxnSp>
        <p:nvCxnSpPr>
          <p:cNvPr id="324" name="Straight Arrow Connector 7"/>
          <p:cNvCxnSpPr/>
          <p:nvPr/>
        </p:nvCxnSpPr>
        <p:spPr>
          <a:xfrm flipH="1">
            <a:off x="1066320" y="2362320"/>
            <a:ext cx="1067760" cy="9151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25" name="Straight Arrow Connector 10"/>
          <p:cNvCxnSpPr/>
          <p:nvPr/>
        </p:nvCxnSpPr>
        <p:spPr>
          <a:xfrm>
            <a:off x="2209680" y="2362320"/>
            <a:ext cx="915120" cy="9151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26" name="Straight Arrow Connector 12"/>
          <p:cNvCxnSpPr/>
          <p:nvPr/>
        </p:nvCxnSpPr>
        <p:spPr>
          <a:xfrm flipH="1">
            <a:off x="1216800" y="3506760"/>
            <a:ext cx="3960" cy="8388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27" name="Straight Arrow Connector 14"/>
          <p:cNvCxnSpPr/>
          <p:nvPr/>
        </p:nvCxnSpPr>
        <p:spPr>
          <a:xfrm flipH="1">
            <a:off x="3198600" y="3506400"/>
            <a:ext cx="3600" cy="7628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pic>
        <p:nvPicPr>
          <p:cNvPr id="328" name="Audio 1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Content Placeholder 3" descr=""/>
          <p:cNvPicPr/>
          <p:nvPr/>
        </p:nvPicPr>
        <p:blipFill>
          <a:blip r:embed="rId1"/>
          <a:stretch/>
        </p:blipFill>
        <p:spPr>
          <a:xfrm>
            <a:off x="225360" y="1603440"/>
            <a:ext cx="8613720" cy="4522680"/>
          </a:xfrm>
          <a:prstGeom prst="rect">
            <a:avLst/>
          </a:prstGeom>
          <a:ln w="0">
            <a:noFill/>
          </a:ln>
        </p:spPr>
      </p:pic>
      <p:sp>
        <p:nvSpPr>
          <p:cNvPr id="331" name="Title 15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Verdana"/>
                <a:ea typeface="Verdana"/>
              </a:rPr>
              <a:t>Cytomegalovi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Audio 6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стика CMV инфекциј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Лабораторијска дијагности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Изолација вируса (амнионска течност, крв, ликвор, урин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Реакција ланчане полимеризације (PC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Серолошке анализе (ЕLISA, IgM антитела, или четворостуки пораст Ig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Патохистолошки налаз- инклузиона телашц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Методе у пренаталној дијагности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Audio 10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Инфекције у трудноћ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Tahoma"/>
              </a:rPr>
              <a:t>Инфекција у трудноћи, без обзира на етиолошки узрочник, може представљати опасност за ток трудноће и пл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Инфекција плода може наста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  <a:ea typeface="Tahoma"/>
              </a:rPr>
              <a:t>У току трудноће (пренатална, интраутерина или конгенитална инфекциј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  <a:ea typeface="Tahoma"/>
              </a:rPr>
              <a:t>За време порођаја (перинатална инфекциј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  <a:ea typeface="Tahoma"/>
              </a:rPr>
              <a:t>После порођаја (постнатална инфекциј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Content Placeholder 4" descr="beba 2.jpg"/>
          <p:cNvPicPr/>
          <p:nvPr/>
        </p:nvPicPr>
        <p:blipFill>
          <a:blip r:embed="rId1"/>
          <a:stretch/>
        </p:blipFill>
        <p:spPr>
          <a:xfrm>
            <a:off x="6095880" y="2590920"/>
            <a:ext cx="2276640" cy="2009520"/>
          </a:xfrm>
          <a:prstGeom prst="rect">
            <a:avLst/>
          </a:prstGeom>
          <a:ln w="0">
            <a:noFill/>
          </a:ln>
        </p:spPr>
      </p:pic>
      <p:pic>
        <p:nvPicPr>
          <p:cNvPr id="268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Лечење и превенциј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Терапија-симптомат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д новорођенчади са постојањем симптоматске инфекције на рођењу антивирусна терапија (Ganciklovir) може имати повољан ефекат на даљи ис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ревенција код трудница- лична хигијена, прање руку водом и сапуном, избегавање дељења хране, пића са малом децом (контакт са саливо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Content Placeholder 4" descr="beba 1.jpg"/>
          <p:cNvPicPr/>
          <p:nvPr/>
        </p:nvPicPr>
        <p:blipFill>
          <a:blip r:embed="rId1"/>
          <a:stretch/>
        </p:blipFill>
        <p:spPr>
          <a:xfrm>
            <a:off x="6400800" y="236232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339" name="Audio 6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Инфекција херпес вирусим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SV-1, HSV-2 припадају породици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erpesvir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SV-2 далеко чешћи изазивач инфекције (90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Инфекција настаје проласком кроз инфицирани порођајни канал мај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Неонатална херпес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Content Placeholder 7" descr="hsv elektonsk.jpg"/>
          <p:cNvPicPr/>
          <p:nvPr/>
        </p:nvPicPr>
        <p:blipFill>
          <a:blip r:embed="rId1"/>
          <a:stretch/>
        </p:blipFill>
        <p:spPr>
          <a:xfrm>
            <a:off x="6400800" y="1600200"/>
            <a:ext cx="1905120" cy="4191120"/>
          </a:xfrm>
          <a:prstGeom prst="rect">
            <a:avLst/>
          </a:prstGeom>
          <a:ln w="0">
            <a:noFill/>
          </a:ln>
        </p:spPr>
      </p:pic>
      <p:pic>
        <p:nvPicPr>
          <p:cNvPr id="343" name="Audio 1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Неонатална херпес инфекциј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a0b0"/>
                </a:solidFill>
                <a:latin typeface="Cambria"/>
              </a:rPr>
              <a:t>Смртност код нелечене дисеминоване инфекције износи 85%, а трајне секвеле 5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Content Placeholder 5" descr=""/>
          <p:cNvPicPr/>
          <p:nvPr/>
        </p:nvPicPr>
        <p:blipFill>
          <a:blip r:embed="rId1"/>
          <a:stretch/>
        </p:blipFill>
        <p:spPr>
          <a:xfrm>
            <a:off x="0" y="1517760"/>
            <a:ext cx="4191120" cy="3941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114800" y="1517400"/>
            <a:ext cx="5029200" cy="50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Неонатална HSV инфе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Локализована                  Дисеминова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Cambria"/>
              </a:rPr>
              <a:t>О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чи                                                  Иктер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Усна дупља                                  Хепатоспленомегалиј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Кожа                                               Хеморагична дијатез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Енцефалит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8" name="Straight Arrow Connector 10"/>
          <p:cNvCxnSpPr/>
          <p:nvPr/>
        </p:nvCxnSpPr>
        <p:spPr>
          <a:xfrm flipH="1">
            <a:off x="4800240" y="1981080"/>
            <a:ext cx="1296000" cy="6105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49" name="Straight Arrow Connector 12"/>
          <p:cNvCxnSpPr/>
          <p:nvPr/>
        </p:nvCxnSpPr>
        <p:spPr>
          <a:xfrm>
            <a:off x="6171840" y="1981080"/>
            <a:ext cx="1067400" cy="6105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pic>
        <p:nvPicPr>
          <p:cNvPr id="350" name="Audio 9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Конгенитална херпес инфекциј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зазивачи HSV-1 и HSV-2, доминантно код примо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Веома ретка за разлику од неонаталне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Трансплацентар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Могући исход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ambria"/>
              </a:rPr>
              <a:t>З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астој у рас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ревремени порођа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обача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орођај мртворођенч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нгениталне малформ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667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онгениталне малформ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Ин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тракранијалне калцифик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икроцефал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икроофталм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ентална ретард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Дисплазија рет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Везикулозне промене на кожи код  дисеминоване </a:t>
            </a:r>
            <a:r>
              <a:rPr b="1" lang="sr-Latn-RS" sz="2000" spc="-1" strike="noStrike">
                <a:solidFill>
                  <a:srgbClr val="6ea0b0"/>
                </a:solidFill>
                <a:latin typeface="Arial"/>
              </a:rPr>
              <a:t>HSV</a:t>
            </a: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44720" y="5486400"/>
            <a:ext cx="4498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Јетра код дисеминоване </a:t>
            </a:r>
            <a:r>
              <a:rPr b="1" lang="sr-Latn-RS" sz="2000" spc="-1" strike="noStrike">
                <a:solidFill>
                  <a:srgbClr val="6ea0b0"/>
                </a:solidFill>
                <a:latin typeface="Arial"/>
              </a:rPr>
              <a:t>HSV</a:t>
            </a: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6ea0b0"/>
                </a:solidFill>
                <a:latin typeface="Cambria"/>
              </a:rPr>
              <a:t>инфекције</a:t>
            </a: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 и хистолошки  нал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Content Placeholder 8" descr="ninr472408.fig1.jpg"/>
          <p:cNvPicPr/>
          <p:nvPr/>
        </p:nvPicPr>
        <p:blipFill>
          <a:blip r:embed="rId1"/>
          <a:stretch/>
        </p:blipFill>
        <p:spPr>
          <a:xfrm>
            <a:off x="420840" y="1523880"/>
            <a:ext cx="4197240" cy="3380040"/>
          </a:xfrm>
          <a:prstGeom prst="rect">
            <a:avLst/>
          </a:prstGeom>
          <a:ln w="0">
            <a:noFill/>
          </a:ln>
        </p:spPr>
      </p:pic>
      <p:pic>
        <p:nvPicPr>
          <p:cNvPr id="358" name="Content Placeholder 9" descr="jetra hsv.jpg"/>
          <p:cNvPicPr/>
          <p:nvPr/>
        </p:nvPicPr>
        <p:blipFill>
          <a:blip r:embed="rId2"/>
          <a:stretch/>
        </p:blipFill>
        <p:spPr>
          <a:xfrm>
            <a:off x="5011560" y="765000"/>
            <a:ext cx="3446640" cy="4624560"/>
          </a:xfrm>
          <a:prstGeom prst="rect">
            <a:avLst/>
          </a:prstGeom>
          <a:ln w="0">
            <a:noFill/>
          </a:ln>
        </p:spPr>
      </p:pic>
      <p:pic>
        <p:nvPicPr>
          <p:cNvPr id="359" name="Audio 5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57913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2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NMR  код  здраве новорођенчеди (лево) и код новорођенчеди са HSV енцефалитисом  (десно) у склопу  дисеминоване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Content Placeholder 3" descr="hsv encefalitis.jpg"/>
          <p:cNvPicPr/>
          <p:nvPr/>
        </p:nvPicPr>
        <p:blipFill>
          <a:blip r:embed="rId1"/>
          <a:stretch/>
        </p:blipFill>
        <p:spPr>
          <a:xfrm>
            <a:off x="822240" y="1219320"/>
            <a:ext cx="6950160" cy="4529160"/>
          </a:xfrm>
          <a:prstGeom prst="rect">
            <a:avLst/>
          </a:prstGeom>
          <a:ln w="0">
            <a:noFill/>
          </a:ln>
        </p:spPr>
      </p:pic>
      <p:pic>
        <p:nvPicPr>
          <p:cNvPr id="362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за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Физикални нал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золација вируса (брис ждрела, аспират трахеје, брис ока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акција ланчане полимеризације (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PCR)-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иквор,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рв, мукокутане лезије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иректна имунофлоресцен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еролошке анализе (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ELI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ambria"/>
              </a:rPr>
              <a:t>Методе у пренаталној дијагност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Audio 9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Лечење херпес инфекциј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600" y="1447560"/>
            <a:ext cx="76960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Лечење дисеминоване HSV инфекције Aciklovirom, 20mg/kg, на 8 сати, интравенским путем, најмање 14-21 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Лечити Аciklovirom симптоматску  HSV инфекцију код труд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Царски рез код примарне или рекурентне инфекције са свежим везикулозним лез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Audio 5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Varicella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58672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азивач 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aricella -  Zoster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ирус припада фамилији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rpesvir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асплацетарни-хематоге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онегативне трудни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У првих 16. недеља трудноће тешке секвел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ambria"/>
              </a:rPr>
              <a:t>Х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поплазија или аплазија уд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Микроцефал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Хидроцефал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Ментална ретард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трофија  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</a:rPr>
              <a:t>n.opti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Content Placeholder 6" descr="varicella-zoster-virus-infections-40-638.jpg"/>
          <p:cNvPicPr/>
          <p:nvPr/>
        </p:nvPicPr>
        <p:blipFill>
          <a:blip r:embed="rId1"/>
          <a:stretch/>
        </p:blipFill>
        <p:spPr>
          <a:xfrm>
            <a:off x="5537160" y="2666880"/>
            <a:ext cx="3352680" cy="2517840"/>
          </a:xfrm>
          <a:prstGeom prst="rect">
            <a:avLst/>
          </a:prstGeom>
          <a:ln w="0">
            <a:noFill/>
          </a:ln>
        </p:spPr>
      </p:pic>
      <p:pic>
        <p:nvPicPr>
          <p:cNvPr id="372" name="Audio 6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0520" y="1219320"/>
            <a:ext cx="5715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Посебан проблем представља неонатална VZV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астаје ако мајка оболи 5 дана пре или 2 дана након порођа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Дисеминована инфекција, захвата кожу, очи, плућа, јетру и C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Дијагноза- пренатална дијагностика, изолација вируса, PCR, антитела на VZ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ciklovir 10-15 mg/kg i.v 8 сати 10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Content Placeholder 8" descr="cihen pox.png"/>
          <p:cNvPicPr/>
          <p:nvPr/>
        </p:nvPicPr>
        <p:blipFill>
          <a:blip r:embed="rId1"/>
          <a:stretch/>
        </p:blipFill>
        <p:spPr>
          <a:xfrm>
            <a:off x="6019920" y="2743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Audio 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Путеви ширења инфекције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Content Placeholder 4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7108920" cy="3828960"/>
          </a:xfrm>
          <a:prstGeom prst="rect">
            <a:avLst/>
          </a:prstGeom>
          <a:ln w="0">
            <a:noFill/>
          </a:ln>
        </p:spPr>
      </p:pic>
      <p:pic>
        <p:nvPicPr>
          <p:cNvPr id="271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Паразитарне инфекције у трудноћ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75248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ТОXOPLA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Узрочник- Протозоа, </a:t>
            </a:r>
            <a:r>
              <a:rPr b="0" i="1" lang="en-US" sz="2000" spc="-1" strike="noStrike">
                <a:solidFill>
                  <a:srgbClr val="ffff00"/>
                </a:solidFill>
                <a:latin typeface="Cambria"/>
              </a:rPr>
              <a:t>Toxoplasma gond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Феко-орална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Серонегативне труднице, инфекција настаје током примо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нфекција мајке уобичајено блага боле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Трансплацантар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Хематогено ширење тахизои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Content Placeholder 4" descr="toxo yivot.jpg"/>
          <p:cNvPicPr/>
          <p:nvPr/>
        </p:nvPicPr>
        <p:blipFill>
          <a:blip r:embed="rId1"/>
          <a:stretch/>
        </p:blipFill>
        <p:spPr>
          <a:xfrm>
            <a:off x="5791320" y="2590920"/>
            <a:ext cx="3076560" cy="3076560"/>
          </a:xfrm>
          <a:prstGeom prst="rect">
            <a:avLst/>
          </a:prstGeom>
          <a:ln w="0">
            <a:noFill/>
          </a:ln>
        </p:spPr>
      </p:pic>
      <p:pic>
        <p:nvPicPr>
          <p:cNvPr id="379" name="Audio 4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Животни циклус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Тoxoplasme gondii и морфолошки облиц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1" name="Content Placeholder 3" descr="toxoplasmosis life cycle includes cat and pregnant woman.jpg"/>
          <p:cNvPicPr/>
          <p:nvPr/>
        </p:nvPicPr>
        <p:blipFill>
          <a:blip r:embed="rId1"/>
          <a:stretch/>
        </p:blipFill>
        <p:spPr>
          <a:xfrm>
            <a:off x="139680" y="2057400"/>
            <a:ext cx="4076640" cy="3429000"/>
          </a:xfrm>
          <a:prstGeom prst="rect">
            <a:avLst/>
          </a:prstGeom>
          <a:ln w="0">
            <a:noFill/>
          </a:ln>
        </p:spPr>
      </p:pic>
      <p:pic>
        <p:nvPicPr>
          <p:cNvPr id="382" name="Content Placeholder 5" descr="morfologija toxo.jpg"/>
          <p:cNvPicPr/>
          <p:nvPr/>
        </p:nvPicPr>
        <p:blipFill>
          <a:blip r:embed="rId2"/>
          <a:stretch/>
        </p:blipFill>
        <p:spPr>
          <a:xfrm>
            <a:off x="4343400" y="2057400"/>
            <a:ext cx="4567320" cy="3429000"/>
          </a:xfrm>
          <a:prstGeom prst="rect">
            <a:avLst/>
          </a:prstGeom>
          <a:ln w="0">
            <a:noFill/>
          </a:ln>
        </p:spPr>
      </p:pic>
      <p:sp>
        <p:nvSpPr>
          <p:cNvPr id="383" name="Text Placeholder 4"/>
          <p:cNvSpPr/>
          <p:nvPr/>
        </p:nvSpPr>
        <p:spPr>
          <a:xfrm>
            <a:off x="0" y="586728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mbria"/>
              </a:rPr>
              <a:t>Живорни циклус Toxoplasme gond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Placeholder 4"/>
          <p:cNvSpPr/>
          <p:nvPr/>
        </p:nvSpPr>
        <p:spPr>
          <a:xfrm>
            <a:off x="4343400" y="5943600"/>
            <a:ext cx="480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ambria"/>
              </a:rPr>
              <a:t>Морфолошки облици 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Toxoplasme gond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Audio 2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Клиничке манифестације Токсоплазмозе у трудноћи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7486920" cy="4535640"/>
          </a:xfrm>
          <a:prstGeom prst="rect">
            <a:avLst/>
          </a:prstGeom>
          <a:ln w="0">
            <a:noFill/>
          </a:ln>
        </p:spPr>
      </p:pic>
      <p:pic>
        <p:nvPicPr>
          <p:cNvPr id="388" name="Audio 7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з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еакција ланчане полимеризације (PCR DN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Серолошке анализе: ЕLISA (IgM, или четвороструки пораст Ig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золација паразита путем биолошког огледа инокулацијом амнионске течности у миш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етоде пренаталне дијагностике (амниоцeнтеза, кордоцeнтез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Content Placeholder 8" descr="toxoplasma.jpg"/>
          <p:cNvPicPr/>
          <p:nvPr/>
        </p:nvPicPr>
        <p:blipFill>
          <a:blip r:embed="rId1"/>
          <a:stretch/>
        </p:blipFill>
        <p:spPr>
          <a:xfrm>
            <a:off x="5410080" y="1752480"/>
            <a:ext cx="3581640" cy="20242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D:\intrauterine predavanje Bilja\toxoplasma-gondii-ELEKTRONIC.jpg"/>
          <p:cNvPicPr/>
          <p:nvPr/>
        </p:nvPicPr>
        <p:blipFill>
          <a:blip r:embed="rId2"/>
          <a:stretch/>
        </p:blipFill>
        <p:spPr>
          <a:xfrm>
            <a:off x="5334120" y="4105440"/>
            <a:ext cx="3657600" cy="2109600"/>
          </a:xfrm>
          <a:prstGeom prst="rect">
            <a:avLst/>
          </a:prstGeom>
          <a:ln w="0">
            <a:noFill/>
          </a:ln>
        </p:spPr>
      </p:pic>
      <p:pic>
        <p:nvPicPr>
          <p:cNvPr id="393" name="Audio 2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Терапиј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2057400"/>
            <a:ext cx="70102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нгенитална токсоплазмоза- комбинована терапија: Pirimetamin 0,5-1mg/kg и Sulfadiazin (100mg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ambria"/>
              </a:rPr>
              <a:t>Додатак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фолне кисел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Лечење је интермитентно и траје годину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ртикостероидна терапија: код прогресивног енцефалитиса и хориоретинити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д субклиничких форми и акутне инфекције трудница- Spiramicin у трајању од 30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Audio 4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Превенција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752120"/>
            <a:ext cx="5181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Спровођење мера личне хигије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Избегавати контакт са мачкама, посебно њиховим излучевинама током трудноћ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Обавезно прање руку након рада у баш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Темељно прање воћа и поврћ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Добра термичка обрада ме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Не конзумирати воду чији квалитет није провер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Content Placeholder 5" descr="toxo ilustracija.jpg"/>
          <p:cNvPicPr/>
          <p:nvPr/>
        </p:nvPicPr>
        <p:blipFill>
          <a:blip r:embed="rId1"/>
          <a:stretch/>
        </p:blipFill>
        <p:spPr>
          <a:xfrm>
            <a:off x="5867280" y="533520"/>
            <a:ext cx="2568600" cy="1923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D:\intrauterine predavanje Bilja\prevencija toxo.jpg"/>
          <p:cNvPicPr/>
          <p:nvPr/>
        </p:nvPicPr>
        <p:blipFill>
          <a:blip r:embed="rId2"/>
          <a:stretch/>
        </p:blipFill>
        <p:spPr>
          <a:xfrm>
            <a:off x="5943600" y="2819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01" name="Audio 3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Бактеријске инфекције у трудноћ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1447560"/>
            <a:ext cx="53341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Cambria"/>
              </a:rPr>
              <a:t>Листери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ambria"/>
              </a:rPr>
              <a:t>Listeria monocytogenes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, грам позитивни штапић, интрацелуларни параз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Феко-орална инфекција мајке, ингестијом контаминиране воде или х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нфекција мајке асимптоматска или у виду грипозног синдро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нфекција плода: трансплацентарни пренос или током проласка кроз заражени порођајни кан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Content Placeholder 4" descr="listerija 3.jpg"/>
          <p:cNvPicPr/>
          <p:nvPr/>
        </p:nvPicPr>
        <p:blipFill>
          <a:blip r:embed="rId1"/>
          <a:stretch/>
        </p:blipFill>
        <p:spPr>
          <a:xfrm>
            <a:off x="5446800" y="2971800"/>
            <a:ext cx="3508200" cy="1905120"/>
          </a:xfrm>
          <a:prstGeom prst="rect">
            <a:avLst/>
          </a:prstGeom>
          <a:ln w="0">
            <a:noFill/>
          </a:ln>
        </p:spPr>
      </p:pic>
      <p:pic>
        <p:nvPicPr>
          <p:cNvPr id="405" name="Audio 1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Патогенеза листериозе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07" name="Content Placeholder 3" descr="listerija patogeneya.jpg"/>
          <p:cNvPicPr/>
          <p:nvPr/>
        </p:nvPicPr>
        <p:blipFill>
          <a:blip r:embed="rId1"/>
          <a:stretch/>
        </p:blipFill>
        <p:spPr>
          <a:xfrm>
            <a:off x="762120" y="1676520"/>
            <a:ext cx="7286400" cy="4525920"/>
          </a:xfrm>
          <a:prstGeom prst="rect">
            <a:avLst/>
          </a:prstGeom>
          <a:ln w="0">
            <a:noFill/>
          </a:ln>
        </p:spPr>
      </p:pic>
      <p:pic>
        <p:nvPicPr>
          <p:cNvPr id="408" name="Audio 5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Конгенитална инфекциј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Listeriom monocytogen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оследице интраутерине инфекције по пл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борт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Интраутерина смрт пл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Мртворође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ревремено рађање инфицираног де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Audio 10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Неонатална инфекција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 Listeriom monocytogene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Трансплацентарни пренос у  трећем триместру или проласком кроз порођајни кан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ambria"/>
              </a:rPr>
              <a:t>Granulomatosis infrantiseptica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тешка слика милијарне болести, смртност 90%, преживели често имају секве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ана новорођеначка сепса-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е разликује се од сепсе других узрочника, углавном се не манифестује менигитисом, преживели ретко имaју неуролошке секвел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асна новорођеначка сепса-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астаје након инфекције у порођајном каналу, манифестује се у трћеој недељи и уобичајено је да се јавља менингоенцефал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Саставни делови овулума код труднице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3" name="Picture 2" descr="D:\intrauterine predavanje Bilja\anatomija placente.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349880"/>
          </a:xfrm>
          <a:prstGeom prst="rect">
            <a:avLst/>
          </a:prstGeom>
          <a:ln w="0">
            <a:noFill/>
          </a:ln>
        </p:spPr>
      </p:pic>
      <p:pic>
        <p:nvPicPr>
          <p:cNvPr id="274" name="Audio 5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advTm="54000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за и терапија листериозе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51920" y="160020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Дијагн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Култивација- ликвор, крв, бриса ждрела, урина, размаз меконијума бојеном по Гра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Серолошка дијагностика- аглутинација, детекција антитела на листериолизин 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mpicilin или Penicilin уз Аminoglikozide због бактерицидног деј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Код алергичних  Kotrimoksaz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Content Placeholder 5" descr="kultura listerijs.jpg"/>
          <p:cNvPicPr/>
          <p:nvPr/>
        </p:nvPicPr>
        <p:blipFill>
          <a:blip r:embed="rId1"/>
          <a:stretch/>
        </p:blipFill>
        <p:spPr>
          <a:xfrm>
            <a:off x="5638680" y="3048120"/>
            <a:ext cx="3251160" cy="1828800"/>
          </a:xfrm>
          <a:prstGeom prst="rect">
            <a:avLst/>
          </a:prstGeom>
          <a:ln w="0">
            <a:noFill/>
          </a:ln>
        </p:spPr>
      </p:pic>
      <p:pic>
        <p:nvPicPr>
          <p:cNvPr id="418" name="Audio 7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Перинатална инфекција стрептококом групе Б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Узрочник је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ß хемолитички стрептокок групе 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лонизација труднице вагине или уретр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а труднице: ендометритис, уринарна инфекција, сепса, менингитис, абдоминални апсце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ест новорођенчета: првих седам дана по рођењу, респираторни дистрес, сепса,  менингитис, пустуле по ко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Content Placeholder 6" descr="streptokok 1.jpg"/>
          <p:cNvPicPr/>
          <p:nvPr/>
        </p:nvPicPr>
        <p:blipFill>
          <a:blip r:embed="rId1"/>
          <a:stretch/>
        </p:blipFill>
        <p:spPr>
          <a:xfrm>
            <a:off x="5257800" y="2666880"/>
            <a:ext cx="3657600" cy="2338560"/>
          </a:xfrm>
          <a:prstGeom prst="rect">
            <a:avLst/>
          </a:prstGeom>
          <a:ln w="0">
            <a:noFill/>
          </a:ln>
        </p:spPr>
      </p:pic>
      <p:pic>
        <p:nvPicPr>
          <p:cNvPr id="422" name="Audio 4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62160" y="5331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a0b0"/>
                </a:solidFill>
                <a:latin typeface="Verdana"/>
                <a:ea typeface="Verdana"/>
              </a:rPr>
              <a:t>Дијагноза и терапиј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24" name="Picture Placeholder 7" descr="streptokok kultura.jpg"/>
          <p:cNvPicPr/>
          <p:nvPr/>
        </p:nvPicPr>
        <p:blipFill>
          <a:blip r:embed="rId1"/>
          <a:stretch/>
        </p:blipFill>
        <p:spPr>
          <a:xfrm>
            <a:off x="182520" y="1481040"/>
            <a:ext cx="4206960" cy="54435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47960" y="2514600"/>
            <a:ext cx="4190760" cy="27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b0f0"/>
                </a:solidFill>
                <a:latin typeface="Cambria"/>
              </a:rPr>
              <a:t>Дијагноза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- култивација бактерије из крви, цереброспиналне течности,  урина, ендотрахеалног аспир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b0f0"/>
                </a:solidFill>
                <a:latin typeface="Cambria"/>
              </a:rPr>
              <a:t>Терапија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- Penicilin G, Ampicilin, Gentamic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Audio 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19360" y="4191120"/>
            <a:ext cx="4190760" cy="76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Verdana"/>
                <a:ea typeface="Verdana"/>
              </a:rPr>
              <a:t>Хвала на пажњи</a:t>
            </a:r>
            <a:r>
              <a:rPr b="0" lang="en-US" sz="2800" spc="-1" strike="noStrike">
                <a:solidFill>
                  <a:srgbClr val="00b0f0"/>
                </a:solidFill>
                <a:latin typeface="Verdana"/>
                <a:ea typeface="Verdan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28" name="Content Placeholder 3" descr="images.jpg"/>
          <p:cNvPicPr/>
          <p:nvPr/>
        </p:nvPicPr>
        <p:blipFill>
          <a:blip r:embed="rId1"/>
          <a:stretch/>
        </p:blipFill>
        <p:spPr>
          <a:xfrm>
            <a:off x="457200" y="907920"/>
            <a:ext cx="3651120" cy="2368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D:\intrauterine predavanje Bilja\images1.jpg"/>
          <p:cNvPicPr/>
          <p:nvPr/>
        </p:nvPicPr>
        <p:blipFill>
          <a:blip r:embed="rId2"/>
          <a:stretch/>
        </p:blipFill>
        <p:spPr>
          <a:xfrm>
            <a:off x="533520" y="4017960"/>
            <a:ext cx="3581280" cy="2031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D:\intrauterine predavanje Bilja\index3.jpg"/>
          <p:cNvPicPr/>
          <p:nvPr/>
        </p:nvPicPr>
        <p:blipFill>
          <a:blip r:embed="rId3"/>
          <a:stretch/>
        </p:blipFill>
        <p:spPr>
          <a:xfrm>
            <a:off x="5791320" y="914400"/>
            <a:ext cx="207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Фактори који утичу на настанак инфекције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Зрелост плода у моменту инфек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Имунолошки статус труд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чуваност плаценте, односно овул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Врста, бројност и вирулентност микроорганиз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редиспонирајући фактор: физиолошка имунодефицијенција пл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Audio 8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  <a:ea typeface="Verdana"/>
              </a:rPr>
              <a:t>Последице инфекција у току трудноће по плод </a:t>
            </a:r>
            <a:br>
              <a:rPr sz="3900"/>
            </a:b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Спонтани побача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Интраутерина смрт пл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Превремено рођење де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Рођење детета са конгениталним малформац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Рођење детета са системским инфекц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Рођење детета ниске порођајне ма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Рођење наизлед здравог де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Audio 19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  <a:ea typeface="Verdana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тиолошки узрочници инфекција у трудноћ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3" marL="1371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рус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3" marL="1371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ј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2f2f2"/>
                          </a:solidFill>
                          <a:uFillTx/>
                          <a:latin typeface="Arial"/>
                        </a:rPr>
                        <a:t>Rub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99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Listeria monocytoge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2f2f2"/>
                          </a:solidFill>
                          <a:uFillTx/>
                          <a:latin typeface="Arial"/>
                        </a:rPr>
                        <a:t>Cytomegal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Streptococcus grupe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2f2f2"/>
                          </a:solidFill>
                          <a:uFillTx/>
                          <a:latin typeface="Arial"/>
                        </a:rPr>
                        <a:t>Herpes simplex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Treponema pallid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Varicella zoster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C</a:t>
                      </a:r>
                      <a:r>
                        <a:rPr b="0" lang="sr-Latn-R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lamy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Parvo B 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Spirohe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Coxsackie i echoviru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3" marL="1371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отоз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HIV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2f2f2"/>
                          </a:solidFill>
                          <a:uFillTx/>
                          <a:latin typeface="Arial"/>
                        </a:rPr>
                        <a:t>Toxoplasma gond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Hepatitis C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Plasmo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Hepatitis B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Papilloma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3" name="Audio 1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0" y="914400"/>
            <a:ext cx="4952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линичка слика зависи од времена настанка инфекције током трудноћ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линички симптоми су често неспецифич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азличити узрочници дају сличну клиничку сли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ambria"/>
              </a:rPr>
              <a:t>Клиничка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слика слична другим стањима неинфективне етиолог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Неопходна брза етиолошка дијагн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Content Placeholder 10" descr="beba konge.jpg"/>
          <p:cNvPicPr/>
          <p:nvPr/>
        </p:nvPicPr>
        <p:blipFill>
          <a:blip r:embed="rId1"/>
          <a:stretch/>
        </p:blipFill>
        <p:spPr>
          <a:xfrm>
            <a:off x="4952880" y="1828800"/>
            <a:ext cx="3932280" cy="4375080"/>
          </a:xfrm>
          <a:prstGeom prst="rect">
            <a:avLst/>
          </a:prstGeom>
          <a:ln w="0">
            <a:noFill/>
          </a:ln>
        </p:spPr>
      </p:pic>
      <p:pic>
        <p:nvPicPr>
          <p:cNvPr id="286" name="Audio 5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ТОRCH  синдром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560" y="1218960"/>
            <a:ext cx="55623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Медицински акроним за синдром дисеминованих интраутериних инфекц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oxoplasma gondii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О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THER INFECTION (druge infekcije): VZV, Parvo B19, Syphylis., Listeria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ubella virus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ytomegalovirus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erpes symplex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_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Content Placeholder 8" descr="trudnica.jpg"/>
          <p:cNvPicPr/>
          <p:nvPr/>
        </p:nvPicPr>
        <p:blipFill>
          <a:blip r:embed="rId1"/>
          <a:stretch/>
        </p:blipFill>
        <p:spPr>
          <a:xfrm>
            <a:off x="5867280" y="2438280"/>
            <a:ext cx="2895840" cy="2895840"/>
          </a:xfrm>
          <a:prstGeom prst="rect">
            <a:avLst/>
          </a:prstGeom>
          <a:ln w="0">
            <a:noFill/>
          </a:ln>
        </p:spPr>
      </p:pic>
      <p:pic>
        <p:nvPicPr>
          <p:cNvPr id="290" name="Audio 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c</dc:creator>
  <dc:description/>
  <dc:language>en-US</dc:language>
  <cp:lastModifiedBy>Milan Milojevic</cp:lastModifiedBy>
  <dcterms:modified xsi:type="dcterms:W3CDTF">2023-09-18T13:13:34Z</dcterms:modified>
  <cp:revision>157</cp:revision>
  <dc:subject/>
  <dc:title>Slide 1</dc:title>
</cp:coreProperties>
</file>