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7.wmf" ContentType="image/x-wmf"/>
  <Override PartName="/ppt/media/image20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png" ContentType="image/png"/>
  <Override PartName="/ppt/media/image26.jpeg" ContentType="image/jpeg"/>
  <Override PartName="/ppt/media/image19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28.jpeg" ContentType="image/jpeg"/>
  <Override PartName="/ppt/media/image18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D56B-CE91-49CB-BB4A-9C1C6941B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9B78-9571-4D53-8B90-1D54CAE4036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8747-5BE9-43D3-84B6-C08717AD76C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8A68-B942-4C89-9578-493A1629E7E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71A4-9F3F-4B1F-B373-7F2A737011B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8B50-A114-428F-96A7-71E5E74376A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157-3F19-4D1A-B3F1-23285F62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E07-07F7-471D-A98C-FC4E27D3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D45-670D-440F-B7D8-87CD955D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721-6110-4C20-8E9C-1699A946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FB84-311C-476A-AAAC-3185E2DA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7437-D417-4894-A94E-6E3A0262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C0EE-8A4F-431D-B482-475EF09F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C042-3506-41B4-975E-78C706FE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8F3C-7614-4667-92A9-B12F1E86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62CE-6D5B-4650-A94F-FCC33829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8E32-AB1A-4040-B136-0D73518F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0BE-F277-4C2C-ACE1-061CD841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908E-F4F2-4C03-B646-1500E526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4ADB-5095-4C05-B835-E58E9780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2263-C341-419E-B65B-FD80541D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E8EF-DBA4-4EBE-9B54-8A2AD11A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6790-3C76-4783-A1FF-6D54A13B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1741-8DD2-4585-BF7E-28B35760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70D8-5D21-4BEB-B069-52A24CDF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34CA-3564-48C8-971E-69C81C1E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00DD4-84B4-4332-BE83-1829C0BF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BFD4-146C-4476-9303-BD1BC30B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517-5AE1-4ABA-8AB9-D128B1D1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37EC-3B9B-49E3-BC29-D1640DB0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6F35-B1C5-46F3-B406-990A6138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4092-8AC7-4B29-B009-40FE90D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18E2E-01C3-4137-9C43-57DA249A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F97F-B9F7-44CD-B8E1-1D877F6A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B8F1-63A7-4DCE-AFE5-2B5D4DD4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E1C6-A549-4AD1-B936-B67F328F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1C6B2-0AEE-4834-AFCE-638443FC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CB62-F0F5-4D96-AB18-C2A9ED8A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1C8A9-4CFF-4DD5-A1A1-F4CFC614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1C3-CC48-4230-BB53-2C47593C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28EFD-562D-4605-8225-72795E4E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D235-9F33-4266-9242-694C39C7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FF98-E950-4662-926C-AB38207C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6E1E-C591-4FCD-B8FF-4B77208D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9EB75-B133-479E-8598-64BC26AD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E05F-F55A-4F01-9E98-FF3FE5B4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9755C-D682-4456-963E-5DD2E844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13F00-79BD-4102-80BF-5A13D0EB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C272-B2BE-4E63-B729-8AC6115C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2C7A-919A-4CD3-A052-63E81F72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652-DB7F-43E9-834E-98F8B98B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E410E-60F7-4001-A76E-5A51F10C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B3116-9CE2-4348-8CD6-D97CFF86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28655-11A9-454C-A698-8FF68B6A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EDB1C-F941-4B8C-BF5F-4CFC6144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8A473-EC1C-4705-BB1A-9534E099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B918D-4B43-4C51-A4A5-6A551391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14D80-38B8-4C3F-8882-D10B4109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B439E-9E7A-4521-BB04-551988CD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FE72E-134A-4958-8A73-88A6F7AC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CA03D-599A-4557-9D53-2BA50CA6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2B3-F7CE-469F-A619-2C9769A4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EDB7D-388C-43C8-B826-6F726625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9A762-80DC-48E7-849E-20EA28B1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88F40-8912-45AA-B7E4-FD4316DC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AF142-B26D-41C4-94C8-E626A223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5724F-D885-4F91-98CB-2518E075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8F887-93BA-49DE-875C-743F0747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5747E-18BF-444C-BA5F-A107D582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BF154-57D6-4149-9B3F-BA0805AA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7B6D8-D8FE-4863-82CA-B2D22DFF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F467B-094B-460F-9C7C-12971274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CAC-FDBF-4116-95CE-B6F2B8FD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460CF-BC50-4E5B-99F1-0B48DF62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76A83-0855-4350-957D-7690146D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67B67-DD7A-4DDF-8117-5954A38D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AFF79-2DA8-4AA1-8579-3C654047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F0470-4E37-44B3-BD69-2129E604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881D9-530E-4315-8564-D9E30021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3D3C1-F0E5-4963-95E3-3F3E7A92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A452E-0C92-4E28-ADCD-B93D232D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7211D-DFD7-467B-B583-C095B07C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DD1FF-C2AA-4342-BB6E-6622D31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AD4-BA7D-42B8-B8F2-AFF5100C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EFD03-4FFE-4DC4-BAFF-DA23095C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0B079-59E3-4FFF-A926-E1FD0E8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7B5C6-9739-4E78-88C9-1C7E7307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701F0-7B1E-43A5-9AE2-C05B4430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EFA04-02C0-4C4A-9B4B-34B3C75F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AE2-CC35-4492-B169-B4A5C1D2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8440-C704-4F7A-876E-043158E1423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91FE-03BE-47C0-8028-81787157174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BB2E-145C-4CD6-93AC-4EA90301415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0BD1-06C9-4CB2-AF64-45121331451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BE72-5357-4FDF-A059-AB7B5DDED09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4536-53A6-4B9C-A8E4-BFE26EE4875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A727-BD7C-481E-ABE6-EBC393F4A368}" type="datetime">
              <a:rPr b="0" lang="en-US" sz="1000" spc="-1" strike="noStrike">
                <a:solidFill>
                  <a:srgbClr val="9b9a98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7689-975D-417A-AF4D-F62F7C6FEB56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238560"/>
          </a:xfrm>
          <a:prstGeom prst="rect">
            <a:avLst/>
          </a:prstGeom>
          <a:ln w="0">
            <a:noFill/>
          </a:ln>
        </p:spPr>
      </p:pic>
      <p:sp>
        <p:nvSpPr>
          <p:cNvPr id="305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5D92-82DD-44B9-A5F2-DA6E95FD7F5E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36960" y="202680"/>
            <a:ext cx="6107040" cy="2535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НТРАХОСПИТАЛНЕ</a:t>
            </a:r>
            <a:r>
              <a:rPr b="0" lang="sr-Latn-C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r>
              <a:rPr b="0" lang="sr-Latn-R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sr-Latn-R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болничке или нозокомијалне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4726080" y="511812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Проф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. др Биљана Поповска-Јович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D:\Users\Predrag Canovic\Desktop\intrahospitalne infekcije\2.jpg"/>
          <p:cNvPicPr/>
          <p:nvPr/>
        </p:nvPicPr>
        <p:blipFill>
          <a:blip r:embed="rId2"/>
          <a:stretch/>
        </p:blipFill>
        <p:spPr>
          <a:xfrm>
            <a:off x="347760" y="260280"/>
            <a:ext cx="2995560" cy="2995560"/>
          </a:xfrm>
          <a:prstGeom prst="rect">
            <a:avLst/>
          </a:prstGeom>
          <a:ln w="0">
            <a:noFill/>
          </a:ln>
        </p:spPr>
      </p:pic>
      <p:pic>
        <p:nvPicPr>
          <p:cNvPr id="309" name="Audio 4" descr=""/>
          <p:cNvPicPr/>
          <p:nvPr/>
        </p:nvPicPr>
        <p:blipFill>
          <a:blip r:embed="rId3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omic Sans MS"/>
              </a:rPr>
              <a:t>Најважнији вируси као узрочници интрахоспиталних инфекциј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Пренос ваздух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Influenza, VZV,  Morbilli, Parainfluenza, Respiratorni sincijalni vi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Фекоорални</a:t>
            </a: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 прен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otavirus, Norovi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Директни конта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HSV1, HSV2, VZ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Вируси који се преносе путем крви и крвних дерив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HBV, HCV, H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9310-1AEE-4D35-9E19-9C582DDCEC48}" type="slidenum">
              <a:rPr b="0" lang="en-US" sz="1000" spc="-1" strike="noStrike">
                <a:solidFill>
                  <a:srgbClr val="9b9a9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Audio 1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Гљивице као узрочници интрахоспиталних инфекциј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1699920"/>
            <a:ext cx="51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00"/>
                </a:solidFill>
                <a:latin typeface="Comic Sans MS"/>
              </a:rPr>
              <a:t>Квасниц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mbria"/>
              </a:rPr>
              <a:t>Candida spp. (C. albicans, C. glabrata, C.krusei, C.tropicalis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Плес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mbria"/>
              </a:rPr>
              <a:t>Aspergillus spp, Acremonium s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00"/>
                </a:solidFill>
                <a:latin typeface="Comic Sans MS"/>
              </a:rPr>
              <a:t>Muco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mbria"/>
              </a:rPr>
              <a:t>Rhizopus s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07FC-0794-49D6-8640-9CEDB812B344}" type="slidenum">
              <a:rPr b="0" lang="en-US" sz="1000" spc="-1" strike="noStrike">
                <a:solidFill>
                  <a:srgbClr val="9b9a9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Content Placeholder 5" descr=""/>
          <p:cNvPicPr/>
          <p:nvPr/>
        </p:nvPicPr>
        <p:blipFill>
          <a:blip r:embed="rId1"/>
          <a:stretch/>
        </p:blipFill>
        <p:spPr>
          <a:xfrm>
            <a:off x="5224320" y="2698920"/>
            <a:ext cx="3657600" cy="232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72" name="Audio 12" descr=""/>
          <p:cNvPicPr/>
          <p:nvPr/>
        </p:nvPicPr>
        <p:blipFill>
          <a:blip r:embed="rId2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9720" y="933480"/>
            <a:ext cx="607212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Учесталост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различитих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их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а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77840" y="1891800"/>
            <a:ext cx="779616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 мокраћних пут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јчешће услед манипулација у мокраћном тра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д 20-25% болесника са уринарним катете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 респораторних пут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а пнеумонија је друга по учесталости болничка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одужава хоспитализацију болесника за 4-9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орталитет се креће између 20-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F537-4F6E-4742-ADFF-C3275E9632F6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Audio 3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23400" y="1892160"/>
            <a:ext cx="7937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</a:t>
            </a:r>
            <a:r>
              <a:rPr b="1" lang="sr-Latn-RS" sz="19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хируршке</a:t>
            </a:r>
            <a:r>
              <a:rPr b="1" lang="sr-Latn-RS" sz="19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ран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око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12%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хируршких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есник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развиј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у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хируршк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ран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одужавају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ацију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есник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з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око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6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да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</a:t>
            </a:r>
            <a:r>
              <a:rPr b="1" lang="sr-Latn-RS" sz="19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крв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рви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(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пс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)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чин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око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6%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их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већин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их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пси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овезан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ј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траваскуларним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атетери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2A2F-B327-4F7D-A917-B546DF3C7A3D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Audio 5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1038240" y="1000440"/>
            <a:ext cx="626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Најзначајнији облици резистенције 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мултирезистентни микроорганизми</a:t>
            </a:r>
            <a:r>
              <a:rPr b="0" lang="sr-R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961920" y="2084400"/>
            <a:ext cx="772020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чк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слови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чест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фекци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етицил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Staphylococcus aureus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нкомиц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Enterococcus (VR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улти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ра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гатив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штапић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ESBL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актамазе проширеног спектра деловањ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љивиц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2BE9-FDA8-4696-BD44-3791CC6DD4CA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7" descr="D:\Users\Predrag Canovic\Desktop\intrahospitalne infekcije\4.jpg"/>
          <p:cNvPicPr/>
          <p:nvPr/>
        </p:nvPicPr>
        <p:blipFill>
          <a:blip r:embed="rId1"/>
          <a:stretch/>
        </p:blipFill>
        <p:spPr>
          <a:xfrm>
            <a:off x="6222960" y="4427640"/>
            <a:ext cx="2687760" cy="2014560"/>
          </a:xfrm>
          <a:prstGeom prst="rect">
            <a:avLst/>
          </a:prstGeom>
          <a:ln w="0">
            <a:noFill/>
          </a:ln>
        </p:spPr>
      </p:pic>
      <p:pic>
        <p:nvPicPr>
          <p:cNvPr id="384" name="Audio 7" descr=""/>
          <p:cNvPicPr/>
          <p:nvPr/>
        </p:nvPicPr>
        <p:blipFill>
          <a:blip r:embed="rId2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1033560" y="804600"/>
            <a:ext cx="75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Најважнији поступци у смањивању појаве и контроли мултирезистентних микро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961920" y="2084400"/>
            <a:ext cx="801540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Активно праћење инфекција и препознавање типова резистенција на антибиот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обра микробиолошка лабораторијска прак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елотворна контрола употребе антибио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Развијање и примена адекватних мера за контролу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Адекватно чишћење и деконтаминација болничке сред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Едукација и практична обука здравственог особљ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A49B-A3BD-408F-AED0-F8712B57EB27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Audio 7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1000080" y="1041120"/>
            <a:ext cx="79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Метицилин резистентни </a:t>
            </a:r>
            <a:r>
              <a:rPr b="0" i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Staphylococcus aureus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(МRS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955800" y="2162160"/>
            <a:ext cx="79182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Staphylococcus aureu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зазива инфекције коже и меких ткива, као и системске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Staphylococcus aureu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30% здравих особа има  у н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МRSА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је главни болнички патоген у свету (ЈИН, инфекције васкуларних/ортопедских имплантата, инфекције хируршких рана, сепсе, пнеумониј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1F66-26A9-4A89-AAE4-030816938AFF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Audio 9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3"/>
          <p:cNvSpPr/>
          <p:nvPr/>
        </p:nvSpPr>
        <p:spPr>
          <a:xfrm>
            <a:off x="923760" y="1969920"/>
            <a:ext cx="801540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Извор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A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фекцијо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олонизациј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Пут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прено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лав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у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ношењ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A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ца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д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к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ук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здравстве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адни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адекватн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ањ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ук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к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ца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A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оста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ендемич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4920-CFE6-40F6-B141-18CF244046FD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Audio 4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1154160" y="824040"/>
            <a:ext cx="625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Ванкомицин-резистентним Enterococcus (VR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077840" y="2200320"/>
            <a:ext cx="783432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Фактори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р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тходн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нкомицино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ишестру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нтибиотиц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сутно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рај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омагал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централ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енск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ринар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ренов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л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Животн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гроже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нколошк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дељењи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л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ој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ма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траабдоминал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оракал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ртопедск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скулар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ролошк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пе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ш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сновн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муносупрес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92A3-B9B7-4D85-A4C7-2E8192310A9E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Audio 8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"/>
          <p:cNvSpPr/>
          <p:nvPr/>
        </p:nvSpPr>
        <p:spPr>
          <a:xfrm>
            <a:off x="1038240" y="1382760"/>
            <a:ext cx="7835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Извор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Enterococcus faecium и Enterococcus fecali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у сапрофити у интестиналном тракту (због употребе широкоспектралних антибиотика могу постати патоген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Начин прено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јчешће са болесника на болесника преко руку здравственог особља или преко контаминиране опреме за негу болес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D44B-DF7D-4BF6-B408-33E09C9EFA93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Audio 7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91960" y="893880"/>
            <a:ext cx="568476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ffff00"/>
                </a:solidFill>
                <a:latin typeface="Comic Sans MS"/>
              </a:rPr>
              <a:t>Дефиниција</a:t>
            </a:r>
            <a:r>
              <a:rPr b="0" i="1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sr-RS" sz="2200" spc="-1" strike="noStrike">
                <a:solidFill>
                  <a:srgbClr val="ffff00"/>
                </a:solidFill>
                <a:latin typeface="Comic Sans MS"/>
              </a:rPr>
              <a:t>болничких инфекција (БИ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85960" y="2063880"/>
            <a:ext cx="7603920" cy="3860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4000"/>
          </a:bodyPr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с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линичк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спољен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обољењ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ј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јављај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д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ацијенат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ао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оследиц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оравк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лечењ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олниц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ал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д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особљ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ао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оследиц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рад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олн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48</a:t>
            </a:r>
            <a:r>
              <a:rPr b="0" lang="en-US" sz="2000" spc="-1" strike="noStrike" baseline="30000">
                <a:solidFill>
                  <a:srgbClr val="002060"/>
                </a:solidFill>
                <a:latin typeface="Cambria"/>
                <a:ea typeface="Arial"/>
              </a:rPr>
              <a:t> h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акон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јема и унутар 3 дана након отпу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нфекциј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ј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иј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л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сутн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јем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ит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ацијент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о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нкубациј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ликом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ј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ема пореклу могу бити ендогене и егзоге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80BF-D104-4F9F-B7EF-9E9879CA8D25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6877080" y="5234040"/>
            <a:ext cx="1700280" cy="1503360"/>
          </a:xfrm>
          <a:prstGeom prst="rect">
            <a:avLst/>
          </a:prstGeom>
          <a:ln w="0">
            <a:noFill/>
          </a:ln>
        </p:spPr>
      </p:pic>
      <p:pic>
        <p:nvPicPr>
          <p:cNvPr id="314" name="Audio 4" descr=""/>
          <p:cNvPicPr/>
          <p:nvPr/>
        </p:nvPicPr>
        <p:blipFill>
          <a:blip r:embed="rId2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1038240" y="101268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Вишеструко резистентне грам-негативне бактер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1023840" y="1969920"/>
            <a:ext cx="7834320" cy="41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ног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ра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гатив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актери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i="1" lang="sr-Latn-RS" sz="2000" spc="-1" strike="noStrike">
                <a:solidFill>
                  <a:srgbClr val="ffffff"/>
                </a:solidFill>
                <a:latin typeface="Cambria"/>
              </a:rPr>
              <a:t>Klebsiela, Esherichia colli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уч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ет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актамаз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шт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чи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Фактори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р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сутно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скулар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сутно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ринар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Хит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бдоминал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пе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остојањ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цевчиц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з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астростом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ејуносто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уж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равак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ца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арочит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тходн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нтибиотиц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0C3F-A70B-44A5-A85C-028BF1E25045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Audio 1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1038240" y="1009800"/>
            <a:ext cx="68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Инфекција коју узрокује Clostridium diffic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1042920" y="2008080"/>
            <a:ext cx="786924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а сa  </a:t>
            </a:r>
            <a:r>
              <a:rPr b="0" i="1" lang="en-US" sz="1800" spc="-1" strike="noStrike">
                <a:solidFill>
                  <a:srgbClr val="ffff00"/>
                </a:solidFill>
                <a:latin typeface="Cambria"/>
                <a:ea typeface="Arial"/>
              </a:rPr>
              <a:t>Clostridium difficile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је данас најчешћи узрочник пролива стечених у болн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Клиничке карактерист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олив се обично јавља 5-10 дана (распон: неколико дана до 2 месеца) након почетка антибиотске терап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јтежи облик болести се назива псеудомембранозни кол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мпликације: панколитис, токсични мегаколон, перфорација и ендотоксични ш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ест је склона релапсима (код 15-25%, унутар 2-4 недељ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514D-8315-4D6B-BF5F-0D1D30FDE045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Audio 2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"/>
          <p:cNvSpPr/>
          <p:nvPr/>
        </p:nvSpPr>
        <p:spPr>
          <a:xfrm>
            <a:off x="1000080" y="1085760"/>
            <a:ext cx="783432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Фактори р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екритична употреба антибиотика широког спектра, посебно беталактамских антибио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Гастроинтестинални и хируршки захв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тарија животна доб (старији и исцрпљени болесниц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Извор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звор инфекције су болесници са клостридијалним колитисом који излучује патогене столиц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а се најчешће шири међу болесницима контактом (директним или индиректни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5EBE-5CFC-4C0E-A016-CADBF014FE0F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Audio 2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1000080" y="1278000"/>
            <a:ext cx="779616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Дијагн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етекција токсина на </a:t>
            </a:r>
            <a:r>
              <a:rPr b="0" i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Clostridium difficile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 стол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Лече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екид антибиотске терапија која је довела до измене микрофлоре црева или променити у терапију антибиотицима који су мање повезани са колити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отребно избегавати антиперисталтичке лекове (Loperam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докнада течности и електроли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Антибиотици: Метронидазол тбл. 400 mg 3x1 10-14 дана (лек првог избора) или Vankomicin орално 4x125 mg 10-14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D37E-C992-4983-83B1-0F7938204A62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Audio 1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rcRect l="3975" t="20027" r="39490" b="7135"/>
          <a:stretch/>
        </p:blipFill>
        <p:spPr>
          <a:xfrm>
            <a:off x="385920" y="1674720"/>
            <a:ext cx="4881240" cy="47149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1"/>
          <p:cNvSpPr/>
          <p:nvPr/>
        </p:nvSpPr>
        <p:spPr>
          <a:xfrm>
            <a:off x="1172880" y="89388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Кључне стратешке мере превен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5438880" y="1803240"/>
            <a:ext cx="370512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евенција инфекције (вакцинација, изолација, не радити док ерозија не зарасте, рукавице, наочаре, маске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Рана дијагноза и терапија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(надзор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елективна употреба антибиоти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евенција преноса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4780-8673-44CF-81B1-15D8C3724A91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Audio 9" descr=""/>
          <p:cNvPicPr/>
          <p:nvPr/>
        </p:nvPicPr>
        <p:blipFill>
          <a:blip r:embed="rId2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15640" y="855720"/>
            <a:ext cx="464652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Праћење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их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а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85960" y="1891800"/>
            <a:ext cx="796608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Cambria"/>
                <a:ea typeface="Arial"/>
              </a:rPr>
              <a:t>Свака здрваствена организација је у обавези да прати болничке инфекциј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Главни циљеви праћења болничких инфекција су следећ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мањење учесталости инфекција у болничким услов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тврђивање сопствених стопа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ткривање епидем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поређивање стопа учесталости болничких инфекција између здравствених устан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евалуирање мера за контролу инфекција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A24B-2253-4B87-95D1-BA363CE829C6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Audio 6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919680" y="1201680"/>
            <a:ext cx="4008240" cy="80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Хвала на пажњи!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F02D-FD6C-4E56-8498-F70F779E04D7}" type="slidenum">
              <a:rPr b="0" lang="en-US" sz="1000" spc="-1" strike="noStrike">
                <a:solidFill>
                  <a:srgbClr val="9b9a9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2" descr="D:\Users\Predrag Canovic\Desktop\intrahospitalne infekcije\8.jpg"/>
          <p:cNvPicPr/>
          <p:nvPr/>
        </p:nvPicPr>
        <p:blipFill>
          <a:blip r:embed="rId1"/>
          <a:stretch/>
        </p:blipFill>
        <p:spPr>
          <a:xfrm>
            <a:off x="270000" y="1892160"/>
            <a:ext cx="2965320" cy="19735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D:\Users\Predrag Canovic\Desktop\intrahospitalne infekcije\9.jpeg"/>
          <p:cNvPicPr/>
          <p:nvPr/>
        </p:nvPicPr>
        <p:blipFill>
          <a:blip r:embed="rId2"/>
          <a:stretch/>
        </p:blipFill>
        <p:spPr>
          <a:xfrm>
            <a:off x="-304920" y="-266760"/>
            <a:ext cx="9753840" cy="73915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1038240" y="1009800"/>
            <a:ext cx="68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ХВАЛА НА ПАЖЊИ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33280" y="933480"/>
            <a:ext cx="430524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-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значај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77480" y="2084400"/>
            <a:ext cx="679788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5-10%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ованих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ат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оби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зроку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100 000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мтрних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лучајев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годиш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Виш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д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70%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зрочник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ултирезистент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3915-26F2-427B-BEC5-A1D7A184F0E0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933480" y="4089240"/>
            <a:ext cx="2424240" cy="181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2"/>
          <a:stretch/>
        </p:blipFill>
        <p:spPr>
          <a:xfrm>
            <a:off x="5438880" y="4159080"/>
            <a:ext cx="2212920" cy="1764000"/>
          </a:xfrm>
          <a:prstGeom prst="rect">
            <a:avLst/>
          </a:prstGeom>
          <a:ln w="0">
            <a:noFill/>
          </a:ln>
        </p:spPr>
      </p:pic>
      <p:pic>
        <p:nvPicPr>
          <p:cNvPr id="320" name="Audio 2" descr=""/>
          <p:cNvPicPr/>
          <p:nvPr/>
        </p:nvPicPr>
        <p:blipFill>
          <a:blip r:embed="rId3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3800" y="893880"/>
            <a:ext cx="499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-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последице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22120" y="2199960"/>
            <a:ext cx="71802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овећањ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орбидитет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орталит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одужењ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аци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ан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ог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лечењ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овећањ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цен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лечењ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608800" y="4311720"/>
          <a:ext cx="182088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8800" y="4311720"/>
                    <a:ext cx="182088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C29F-4B01-4C3E-8E07-FDE84949F74F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Audio 6" descr=""/>
          <p:cNvPicPr/>
          <p:nvPr/>
        </p:nvPicPr>
        <p:blipFill>
          <a:blip r:embed="rId3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93680" y="933480"/>
            <a:ext cx="51292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Пацијенти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ризику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за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настанак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37880" y="2008080"/>
            <a:ext cx="612756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оворођенчад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ец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тари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со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ј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у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уг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ов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мунокомпромитован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роничним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ест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лонизован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РМ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7F59-E33B-4FEA-9146-5E2F913B1E51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385920" y="5388120"/>
            <a:ext cx="1128600" cy="1253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"/>
          <p:cNvPicPr/>
          <p:nvPr/>
        </p:nvPicPr>
        <p:blipFill>
          <a:blip r:embed="rId2"/>
          <a:stretch/>
        </p:blipFill>
        <p:spPr>
          <a:xfrm>
            <a:off x="4672080" y="5403960"/>
            <a:ext cx="1111320" cy="1224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"/>
          <p:cNvPicPr/>
          <p:nvPr/>
        </p:nvPicPr>
        <p:blipFill>
          <a:blip r:embed="rId3"/>
          <a:stretch/>
        </p:blipFill>
        <p:spPr>
          <a:xfrm>
            <a:off x="3179880" y="5416560"/>
            <a:ext cx="1209600" cy="1198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4"/>
          <a:stretch/>
        </p:blipFill>
        <p:spPr>
          <a:xfrm>
            <a:off x="1797120" y="5373720"/>
            <a:ext cx="1098360" cy="1282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"/>
          <p:cNvPicPr/>
          <p:nvPr/>
        </p:nvPicPr>
        <p:blipFill>
          <a:blip r:embed="rId5"/>
          <a:stretch/>
        </p:blipFill>
        <p:spPr>
          <a:xfrm>
            <a:off x="6066000" y="5388120"/>
            <a:ext cx="1257120" cy="1255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"/>
          <p:cNvPicPr/>
          <p:nvPr/>
        </p:nvPicPr>
        <p:blipFill>
          <a:blip r:embed="rId6"/>
          <a:stretch/>
        </p:blipFill>
        <p:spPr>
          <a:xfrm>
            <a:off x="7605720" y="5388120"/>
            <a:ext cx="1095480" cy="1253880"/>
          </a:xfrm>
          <a:prstGeom prst="rect">
            <a:avLst/>
          </a:prstGeom>
          <a:ln w="0">
            <a:noFill/>
          </a:ln>
        </p:spPr>
      </p:pic>
      <p:pic>
        <p:nvPicPr>
          <p:cNvPr id="336" name="Audio 8" descr=""/>
          <p:cNvPicPr/>
          <p:nvPr/>
        </p:nvPicPr>
        <p:blipFill>
          <a:blip r:embed="rId7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31840" y="701280"/>
            <a:ext cx="24782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ризик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23480" y="1969920"/>
            <a:ext cx="638172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исуств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траваскуларн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пр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исуств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ринарних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ате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тубациј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еханичк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вентил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пе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исуств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зогастричн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он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Трансфуз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рентералн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сх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AF25-D611-4265-996C-02563165A15B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585720" y="5173560"/>
            <a:ext cx="1144800" cy="1457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"/>
          <p:cNvPicPr/>
          <p:nvPr/>
        </p:nvPicPr>
        <p:blipFill>
          <a:blip r:embed="rId2"/>
          <a:stretch/>
        </p:blipFill>
        <p:spPr>
          <a:xfrm>
            <a:off x="3535200" y="5338800"/>
            <a:ext cx="1209960" cy="1293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"/>
          <p:cNvPicPr/>
          <p:nvPr/>
        </p:nvPicPr>
        <p:blipFill>
          <a:blip r:embed="rId3"/>
          <a:stretch/>
        </p:blipFill>
        <p:spPr>
          <a:xfrm>
            <a:off x="2031840" y="5241960"/>
            <a:ext cx="1233720" cy="1388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4"/>
          <a:stretch/>
        </p:blipFill>
        <p:spPr>
          <a:xfrm>
            <a:off x="5016600" y="5338800"/>
            <a:ext cx="1260360" cy="1336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"/>
          <p:cNvPicPr/>
          <p:nvPr/>
        </p:nvPicPr>
        <p:blipFill>
          <a:blip r:embed="rId5"/>
          <a:stretch/>
        </p:blipFill>
        <p:spPr>
          <a:xfrm>
            <a:off x="6461280" y="5286240"/>
            <a:ext cx="1096920" cy="1322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"/>
          <p:cNvPicPr/>
          <p:nvPr/>
        </p:nvPicPr>
        <p:blipFill>
          <a:blip r:embed="rId6"/>
          <a:stretch/>
        </p:blipFill>
        <p:spPr>
          <a:xfrm>
            <a:off x="7740720" y="5276880"/>
            <a:ext cx="1184040" cy="1317600"/>
          </a:xfrm>
          <a:prstGeom prst="rect">
            <a:avLst/>
          </a:prstGeom>
          <a:ln w="0">
            <a:noFill/>
          </a:ln>
        </p:spPr>
      </p:pic>
      <p:pic>
        <p:nvPicPr>
          <p:cNvPr id="346" name="Audio 3" descr=""/>
          <p:cNvPicPr/>
          <p:nvPr/>
        </p:nvPicPr>
        <p:blipFill>
          <a:blip r:embed="rId7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5640" y="933480"/>
            <a:ext cx="3148200" cy="51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утеви</a:t>
            </a:r>
            <a:r>
              <a:rPr b="0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реношењ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37880" y="2122560"/>
            <a:ext cx="7527960" cy="28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Микроорганизм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у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ц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еколико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чи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,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ст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микроорганизам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мож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ет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еколико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чи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онтакт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,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директ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директн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апљич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ваздух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утем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вектор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(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иј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војствен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ој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реди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4336-1630-4F3C-9312-45AAA4DF3C31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imp2"/>
          <p:cNvPicPr/>
          <p:nvPr/>
        </p:nvPicPr>
        <p:blipFill>
          <a:blip r:embed="rId1"/>
          <a:stretch/>
        </p:blipFill>
        <p:spPr>
          <a:xfrm rot="21022200">
            <a:off x="6515280" y="417600"/>
            <a:ext cx="2419200" cy="15555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D:\Users\Predrag Canovic\Desktop\intrahospitalne infekcije\6.jpg"/>
          <p:cNvPicPr/>
          <p:nvPr/>
        </p:nvPicPr>
        <p:blipFill>
          <a:blip r:embed="rId2"/>
          <a:stretch/>
        </p:blipFill>
        <p:spPr>
          <a:xfrm>
            <a:off x="193680" y="492588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352" name="Audio 4" descr=""/>
          <p:cNvPicPr/>
          <p:nvPr/>
        </p:nvPicPr>
        <p:blipFill>
          <a:blip r:embed="rId3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Узрочници интрахоспиталних инфекциј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488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00"/>
                </a:solidFill>
                <a:latin typeface="Cambria"/>
              </a:rPr>
              <a:t>Бактер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Cambria"/>
              </a:rPr>
              <a:t>Вирус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Cambria"/>
              </a:rPr>
              <a:t>Гљив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Cambria"/>
              </a:rPr>
              <a:t>Протоз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Cambria"/>
              </a:rPr>
              <a:t>Прион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AE5E-CB3F-40C4-B716-6000D9931968}" type="slidenum">
              <a:rPr b="0" lang="en-US" sz="1000" spc="-1" strike="noStrike">
                <a:solidFill>
                  <a:srgbClr val="9b9a9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4432320" y="4505400"/>
            <a:ext cx="4767120" cy="3144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2"/>
          <a:stretch/>
        </p:blipFill>
        <p:spPr>
          <a:xfrm rot="20511600">
            <a:off x="4701960" y="1728360"/>
            <a:ext cx="2423880" cy="17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8" name="Picture 2" descr=""/>
          <p:cNvPicPr/>
          <p:nvPr/>
        </p:nvPicPr>
        <p:blipFill>
          <a:blip r:embed="rId3"/>
          <a:stretch/>
        </p:blipFill>
        <p:spPr>
          <a:xfrm rot="20799000">
            <a:off x="696600" y="4551120"/>
            <a:ext cx="2108160" cy="2108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9" name="Audio 2" descr=""/>
          <p:cNvPicPr/>
          <p:nvPr/>
        </p:nvPicPr>
        <p:blipFill>
          <a:blip r:embed="rId4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omic Sans MS"/>
              </a:rPr>
              <a:t>Најважнији бактеријски узрочници интрахоспиталних инфекциј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638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omic Sans MS"/>
              </a:rPr>
              <a:t>Грам позитивне бактериј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taphylococcus aur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Enterococcus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Koagulaza  negativan Staphylococc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Грам</a:t>
            </a:r>
            <a:r>
              <a:rPr b="0" lang="sr-RS" sz="2000" spc="-1" strike="noStrike">
                <a:solidFill>
                  <a:srgbClr val="ffff00"/>
                </a:solidFill>
                <a:latin typeface="Comic Sans MS"/>
              </a:rPr>
              <a:t> негативне бактериј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Escherichia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Pseudomonas aerugin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Klebsiella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Serratia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Acinetobacter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09EC-E11D-467A-86EE-BE7E62200BFA}" type="slidenum">
              <a:rPr b="0" lang="en-US" sz="1000" spc="-1" strike="noStrike">
                <a:solidFill>
                  <a:srgbClr val="9b9a9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Audio 15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7:46:03Z</dcterms:created>
  <dc:creator>Dragan Adamovic</dc:creator>
  <dc:description/>
  <dc:language>en-US</dc:language>
  <cp:lastModifiedBy>Milan Milojevic</cp:lastModifiedBy>
  <dcterms:modified xsi:type="dcterms:W3CDTF">2023-09-18T13:13:20Z</dcterms:modified>
  <cp:revision>237</cp:revision>
  <dc:subject/>
  <dc:title>Slide 1</dc:title>
</cp:coreProperties>
</file>